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6DD-F55E-4763-9499-09D715E2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A98-AD0B-4D4B-9936-AD696E76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8F6-FF43-40BD-85B6-18456A18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E6E-D5A3-4303-9FAD-9174ED6A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EE7-BF86-4B06-BAB3-B8DAD4E4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3F6-7B65-4B32-90A7-AC3D924A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475-831F-44B5-B1E3-6BDD9071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2D48-0AF0-48D9-86D4-A0D1B705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031-0864-4485-ACBE-A158223F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DFE-3A78-4024-BCE1-459D9BB1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75B-7C81-4C3E-8226-1610CFDA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A32-E080-4444-8694-2929A9E5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B6A9-B697-4374-A6D2-03044B853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all to Worship (lam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ry to God, we cry alou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day of our trou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eek you, Go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as your steadfast love cea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Are your promises at an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Have you forgotten to be gr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nd shut up your compa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all God’s deeds to mi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member your wonders of o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muse up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mighty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way, O God, is holy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77:1-2, 8-9, 11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41:22Z</dcterms:created>
  <dc:creator>Anon Anon</dc:creator>
  <dc:description/>
  <dc:language>en-US</dc:language>
  <cp:lastModifiedBy>Anon Anon</cp:lastModifiedBy>
  <dcterms:modified xsi:type="dcterms:W3CDTF">2005-08-09T05:35:42Z</dcterms:modified>
  <cp:revision>10</cp:revision>
  <dc:subject/>
  <dc:title>Call to Worship (lament)</dc:title>
</cp:coreProperties>
</file>